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582-76E9-498A-923A-EF9ED802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C1D-5E49-45F7-8F0A-B46CC796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F60-CE13-4102-AF86-D7A9A9DF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2BC-32C7-4042-8BDB-DFE4AAF3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02B7-F8A1-4FE0-AACE-C5779AEE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6604-F904-4DC1-9999-64AB6BC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C497-C1DA-4A6A-B6FC-3385EF27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29A6-946C-41C5-929F-A6187CA7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A7B9-3C9E-4940-A590-3B91890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15A1-9238-49F8-ABA9-F71579F9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3485-92D9-4A59-B634-87A0C1A3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D5B-6CBB-419F-BCC6-07564C8E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1FFD-5520-4D0B-9E7F-4CD421F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5E80-1769-4C79-9A20-BA86B33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B9FA-6BA1-45E5-84F5-A2A9CFD3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E047-BD5D-4A4F-90D2-AD348550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E296-FAD9-4C28-8C27-B98D705D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ED3-3BD2-4882-8482-E8431698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CEF-13B0-491E-B2E5-D0AD0019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2DD-B719-4057-A4CF-E63FBF1E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FFC-299E-48E2-8DB8-201925DB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CF8-0083-480D-8460-E836C7B2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390-4DA5-4D71-90A7-993B14CB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81A-6F11-4D70-8154-6E782F8E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0ADA-88FD-4788-9B60-D456DBFA74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07A8-CA05-417B-9D4B-BAF92AC6A9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981080" y="228600"/>
            <a:ext cx="5791320" cy="27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АВДИВЕС МЕ</a:t>
            </a:r>
            <a:endParaRPr b="1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76520" y="3124080"/>
            <a:ext cx="66294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80000"/>
                  </a:srgbClr>
                </a:solidFill>
                <a:latin typeface="Arial Black"/>
              </a:rPr>
              <a:t>ДНЕС АЗ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4000" y="152280"/>
            <a:ext cx="4583520" cy="6492960"/>
          </a:xfrm>
          <a:prstGeom prst="rect">
            <a:avLst/>
          </a:prstGeom>
          <a:gradFill rotWithShape="0">
            <a:gsLst>
              <a:gs pos="0">
                <a:srgbClr val="66ff33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АВДИВЕС 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КИ КАНГЕРИ БЕШ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Е БАРЕ ДЕВЛ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АСВЕНЦА МОЛИН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/ ПРОСТИ МАНГЕ ДЕВ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КАЙ ТУКЕ ГРЕШИН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НАМАНГВА 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ГАДА ТЕ ЖИВИНАВ. /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9600" y="609480"/>
            <a:ext cx="3545640" cy="5580360"/>
          </a:xfrm>
          <a:prstGeom prst="rect">
            <a:avLst/>
          </a:pr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ДНЕС 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В ЦЪРКВАТА СЕД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И МОЯТ Б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СЪС СЪЛЗИ МО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ПРОСТИ 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ЧЕ ТИ СЪГРЕШАВ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НЕ ИСК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ТАКА ДА ЖИВЕ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5000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34000" y="228600"/>
            <a:ext cx="4320000" cy="30801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7b46d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/  МОЛИНАВ ТУ ДЕВ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МАНЦА ТЕ АВЕ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ТАРО КАНИЛО БЕ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МАН ТЕ ПАЗИНЕС. /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50520" y="3124080"/>
            <a:ext cx="3987720" cy="30801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7b46d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МОЛЯТЕ ГОСПО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СЪС МЕН ДА БЪДЕ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И ОТ ГРЕХ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ДА МЕ ОПАЗИ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5000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9120" y="152280"/>
            <a:ext cx="5036040" cy="6492960"/>
          </a:xfrm>
          <a:prstGeom prst="rect">
            <a:avLst/>
          </a:prstGeom>
          <a:gradFill rotWithShape="0">
            <a:gsLst>
              <a:gs pos="0">
                <a:srgbClr val="000099">
                  <a:alpha val="20000"/>
                </a:srgbClr>
              </a:gs>
              <a:gs pos="100000">
                <a:srgbClr val="ff9933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ШУНЕС ЛИ МОЧА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ТЕ НАДАР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МЕ СИОМ ТИ РО Д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МЕ ТУТ ДЕ Х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/ КЕ БЕЗЕ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КО КРЪСТОС КОВИНГЬ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НАЛИ ТУКЕ МОЧАВ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66ff"/>
                </a:solidFill>
                <a:latin typeface="Arial"/>
              </a:rPr>
              <a:t>А ТЕ МЕ МОЛЬОМ. /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1200" y="533520"/>
            <a:ext cx="3859560" cy="5580360"/>
          </a:xfrm>
          <a:prstGeom prst="rect">
            <a:avLst/>
          </a:prstGeom>
          <a:gradFill rotWithShape="0">
            <a:gsLst>
              <a:gs pos="0">
                <a:srgbClr val="000099">
                  <a:alpha val="20000"/>
                </a:srgbClr>
              </a:gs>
              <a:gs pos="100000">
                <a:srgbClr val="ff9933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3366ff"/>
                </a:solidFill>
                <a:latin typeface="Arial"/>
              </a:rPr>
              <a:t>ЧУВАШЛИ СИНЕ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3366ff"/>
                </a:solidFill>
                <a:latin typeface="Arial"/>
              </a:rPr>
              <a:t>НЕ СЕ БОЙ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3366ff"/>
                </a:solidFill>
                <a:latin typeface="Arial"/>
              </a:rPr>
              <a:t>АЗ СЪМ ТВОЯТ ПЪ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3366ff"/>
                </a:solidFill>
                <a:latin typeface="Arial"/>
              </a:rPr>
              <a:t>И ТЕБ ОБИЧ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3366ff"/>
                </a:solidFill>
                <a:latin typeface="Arial"/>
              </a:rPr>
              <a:t>ГРЕХОВЕТЕ 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3366ff"/>
                </a:solidFill>
                <a:latin typeface="Arial"/>
              </a:rPr>
              <a:t>НА КРЪСТА ПРИКОВ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3366ff"/>
                </a:solidFill>
                <a:latin typeface="Arial"/>
              </a:rPr>
              <a:t>НАЛИ ЗА ТЕБ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3366ff"/>
                </a:solidFill>
                <a:latin typeface="Arial"/>
              </a:rPr>
              <a:t>МОЕ ДЕТЕ УМР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6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400" y="0"/>
            <a:ext cx="4320000" cy="3506760"/>
          </a:xfrm>
          <a:prstGeom prst="rect">
            <a:avLst/>
          </a:prstGeom>
          <a:gradFill rotWithShape="0">
            <a:gsLst>
              <a:gs pos="0">
                <a:srgbClr val="000099">
                  <a:alpha val="20000"/>
                </a:srgbClr>
              </a:gs>
              <a:gs pos="100000">
                <a:srgbClr val="7b46d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/  МОЛИНАВ ТУ ДЕВ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МАНЦА ТЕ АВЕ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ТАРО КАНИЛО БЕ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МАН ТЕ ПАЗИНЕС. /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6000" y="2666880"/>
            <a:ext cx="3987720" cy="3506760"/>
          </a:xfrm>
          <a:prstGeom prst="rect">
            <a:avLst/>
          </a:prstGeom>
          <a:gradFill rotWithShape="0">
            <a:gsLst>
              <a:gs pos="0">
                <a:srgbClr val="000099">
                  <a:alpha val="20000"/>
                </a:srgbClr>
              </a:gs>
              <a:gs pos="100000">
                <a:srgbClr val="7b46d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МОЛЯТЕ ГОСПО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СЪС МЕН ДА БЪДЕ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И ОТ ГРЕХ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ДА МЕ ОПАЗИ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0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1:20:25Z</dcterms:created>
  <dc:creator>TrifonTrifonow</dc:creator>
  <dc:description/>
  <dc:language>en-US</dc:language>
  <cp:lastModifiedBy>TrifonTrifonow</cp:lastModifiedBy>
  <dcterms:modified xsi:type="dcterms:W3CDTF">2006-01-11T16:24:02Z</dcterms:modified>
  <cp:revision>2</cp:revision>
  <dc:subject/>
  <dc:title>Slide 1</dc:title>
</cp:coreProperties>
</file>